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0C6-9823-4A55-B584-966EBE14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7F1-C877-485F-9A09-6169BD06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B73-65DA-46BC-A425-7D17EC9E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6CA-4F8A-4603-8506-6BC51778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FDC-0469-4EAF-ADB6-EC7B23B6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ACD-6F1F-457D-84CE-42A6B396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FAD-763D-4A04-8B8A-481E1733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01B-3894-4211-8981-1B20725D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724-9450-4C65-915C-08BE87E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CDA-B8BF-494D-935F-BA01BE5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CE4-1363-4819-9E19-A408DB78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75F-5EDA-46F0-A374-052E382B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8C9D-AA94-4C2C-B4D7-0B758099D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travel-to-egypt.net/images/Nile_River_Pictures.jpg&amp;imgrefurl=http://www.travel-to-egypt.net/nile-river-pictures.html&amp;usg=__AQSmaymBBYV13WqxmtKzF5rQ0Xw=&amp;h=266&amp;w=399&amp;sz=75&amp;hl=en&amp;start=9&amp;um=1&amp;tbnid=Xh2hKmkMjTcaDM:&amp;tbnh=83&amp;tbnw=124&amp;prev=/images%3Fq%3Dnile%2Briver%26hl%3Den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ndrew 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16360" y="1341360"/>
            <a:ext cx="352404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 Black"/>
              </a:rPr>
              <a:t>The Nile Ri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e Nile river is located in Egypt, Africa and flows through Uganda, Rwanda, Ethiopia, Eritrea, Kenya, Burundi, Sudan , Tanzania and The Democratic Republic of Con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4076640"/>
            <a:ext cx="31255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780000" y="0"/>
            <a:ext cx="43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nd of slide show, Click to ex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Nile River is The longest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ustralia is c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odz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4:32:16Z</dcterms:created>
  <dc:creator>andrew.bell</dc:creator>
  <dc:description/>
  <dc:language>en-US</dc:language>
  <cp:lastModifiedBy>andrew.bell</cp:lastModifiedBy>
  <dcterms:modified xsi:type="dcterms:W3CDTF">2009-06-24T05:00:08Z</dcterms:modified>
  <cp:revision>2</cp:revision>
  <dc:subject/>
  <dc:title>Slide 1</dc:title>
</cp:coreProperties>
</file>